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280-05C3-4715-BAE8-4B7B9DA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CB1-D3A8-4171-A8A9-CD81568B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6DC-C24B-49F0-BFAF-E25C4155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9F9-1051-4C25-8CCA-90B68495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85F-AB9D-4167-AD1F-5DDAAA9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DBC6-0830-46D7-A360-FF629F68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114F-44CB-4672-8FA7-D7C40933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BBB-49C1-4122-96EB-C3722BB9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554C-F447-4EA8-8B90-ED7D0660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D1F3-90FB-4CDA-9CC6-4BC84DA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E9C4-AA8C-45ED-8FC3-2A0DDFA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71B-85BB-41EC-8ECA-D9219CE8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3F0D-1096-434D-81E1-B2C48DB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997A-5D10-4500-B443-6ADE3AA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0655-B613-49D1-A458-C2169D35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8853-737B-47BF-AA2A-3434317C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F55-C615-46A0-A31F-7E2BCCB7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C00-1F37-4503-BA32-8BF066B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5D6-AB88-4387-AD18-5ACB3BDD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74B-1795-4760-B93D-737E760C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A21-9B0D-4A83-81C6-94770E9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916-374C-49CA-9BF9-E1EC2E32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003-9687-45F6-9A75-0FBABBBC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54A-A50D-45AA-8D54-862D393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7D6B-1F07-4521-8C1D-D23EC497F9DF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FE8A-1BBC-4B68-B1BB-3AF030AB522B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Equations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3276720"/>
                <a:ext cx="3448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429000" y="3048120"/>
                <a:ext cx="1593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276720" y="3124080"/>
                <a:ext cx="16002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429000" y="3048120"/>
                <a:ext cx="1593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19520" y="3200400"/>
          <a:ext cx="299700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200400"/>
                    <a:ext cx="299700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4:53:16Z</dcterms:created>
  <dc:creator>PA Department of Education</dc:creator>
  <dc:description/>
  <dc:language>en-US</dc:language>
  <cp:lastModifiedBy>Parkland High School</cp:lastModifiedBy>
  <cp:lastPrinted>2010-09-21T15:30:49Z</cp:lastPrinted>
  <dcterms:modified xsi:type="dcterms:W3CDTF">2010-09-21T15:37:55Z</dcterms:modified>
  <cp:revision>4</cp:revision>
  <dc:subject/>
  <dc:title>Basic Equations</dc:title>
</cp:coreProperties>
</file>